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35A-18AC-4397-AA0C-1D6CDAB5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C8AB-0F1F-4664-AADA-C7438720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BE2-0844-4D90-9B88-224C1773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492-0AD0-48AB-80CA-BE22B903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2ED4-BDD8-4935-B41B-45798D5C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3E74-683D-4ACD-AEC4-AB9ACDB3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2435-B3C0-4C22-8AD6-C0BFA8E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723D-1ABF-4C62-8DDD-B1481F5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29CD-4EBC-4473-8AE1-F4FD73C4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896-B3FB-402C-AF45-EE11A1CE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6EE-282C-4564-B0E7-A669FB80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70B-196E-4472-8FD0-AA3B6C37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B152-6685-430A-A3DA-AAE3481C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27F3-3084-485A-9F1F-C8C7B04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FA0-4076-4745-AF26-8863726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172E-A5B2-48CF-ABAC-B8E78603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8039-3B4A-4443-AA32-03BF30D0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B4A-4EB2-41A3-976E-C78B6B9C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037-A698-4B56-92FF-22C4DA48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CDF-E381-41E9-B083-A1BEAD7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A1A-64D0-4D25-8D18-5C12D86E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467-5005-4570-BB49-F76727A1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2FC-F320-42F1-82DF-4229720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8E0-6A87-469B-AF21-F1FBE40C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8C34-5AC1-44A1-B9BD-950CD2F1998F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2D34-A31B-483B-97DE-E58CF388514F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D47-423E-4CAF-87BC-E83A107360B5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747-FACC-4F28-8A21-B526C730E908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1532;1&#31456;%20%20%20%20Visual%20FoxPro%206.0%20&#27010;&#36848;.ppt" TargetMode="External"/><Relationship Id="rId3" Type="http://schemas.openxmlformats.org/officeDocument/2006/relationships/hyperlink" Target="file:///&#31532;1&#31456;%20%20%20%20Visual%20FoxPro%206.0%20&#27010;&#36848;.ppt" TargetMode="External"/><Relationship Id="rId4" Type="http://schemas.openxmlformats.org/officeDocument/2006/relationships/hyperlink" Target="file:///&#31532;1&#31456;%20%20%20%20Visual%20FoxPro%206.0%20&#27010;&#36848;.ppt" TargetMode="External"/><Relationship Id="rId5" Type="http://schemas.openxmlformats.org/officeDocument/2006/relationships/hyperlink" Target="file:///&#31532;2&#31456;%20VFP&#30340;&#22522;&#26412;&#25805;&#20316;&#26041;&#27861;.ppt" TargetMode="External"/><Relationship Id="rId6" Type="http://schemas.openxmlformats.org/officeDocument/2006/relationships/hyperlink" Target="file:///&#31532;2&#31456;%20VFP&#30340;&#22522;&#26412;&#25805;&#20316;&#26041;&#27861;.ppt" TargetMode="External"/><Relationship Id="rId7" Type="http://schemas.openxmlformats.org/officeDocument/2006/relationships/hyperlink" Target="file:///&#31532;2&#31456;%20VFP&#30340;&#22522;&#26412;&#25805;&#20316;&#26041;&#27861;.ppt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mp5253" descr=""/>
          <p:cNvPicPr/>
          <p:nvPr/>
        </p:nvPicPr>
        <p:blipFill>
          <a:blip r:embed="rId2"/>
          <a:stretch/>
        </p:blipFill>
        <p:spPr>
          <a:xfrm>
            <a:off x="0" y="0"/>
            <a:ext cx="9245520" cy="699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19520" y="4495680"/>
            <a:ext cx="3886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  <a:ea typeface="隶书"/>
              </a:rPr>
              <a:t>荆门职业技术学院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Narrow"/>
                <a:ea typeface="隶书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  <a:ea typeface="隶书"/>
              </a:rPr>
              <a:t>黎能武    制作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076960" cy="552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Visual FoxPro 6.0</a:t>
            </a:r>
            <a:r>
              <a:rPr b="0" lang="zh-CN" sz="60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程序设计</a:t>
            </a:r>
            <a:endParaRPr b="0" lang="en-US" sz="6000" spc="1" strike="noStrike">
              <a:ln w="1584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727D-450D-46C1-8515-3F11EC4486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D5A59FC-1C78-4C24-AC73-75E14925FA4E}" type="datetime1">
              <a:rPr lang="en-US"/>
              <a:t>07/29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52480" y="609480"/>
            <a:ext cx="577548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2"/>
              </a:rPr>
              <a:t>第1章 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VFP6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概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第2章 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VFP</a:t>
            </a:r>
            <a:r>
              <a:rPr b="0" lang="zh-CN" sz="2400" spc="-1" strike="noStrike" u="sng">
                <a:solidFill>
                  <a:srgbClr val="393a18"/>
                </a:solidFill>
                <a:uFillTx/>
                <a:latin typeface="Times New Roman"/>
                <a:hlinkClick r:id="rId7"/>
              </a:rPr>
              <a:t>的基本操作方法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利用项目管理器设计数据库和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数据的检索、统计与多工作区操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VFP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程序设计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查询与视图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VFP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表单设计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报表、标签设计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VFP6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菜单设计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利用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PI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设计应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章 多用户与共享技术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附         录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7240" y="1306440"/>
            <a:ext cx="8506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目     录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233-46C6-4DF6-A3A3-4DEEC8AA90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9BE2E-E3F8-42F2-A798-507107F12BC5}" type="datetime1">
              <a:rPr lang="en-US"/>
              <a:t>07/29/26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03:51:16Z</dcterms:created>
  <dc:creator>黎能武</dc:creator>
  <dc:description/>
  <dc:language>en-US</dc:language>
  <cp:lastModifiedBy>lsj</cp:lastModifiedBy>
  <dcterms:modified xsi:type="dcterms:W3CDTF">2001-09-25T13:41:40Z</dcterms:modified>
  <cp:revision>51</cp:revision>
  <dc:subject/>
  <dc:title>Visual FoxPro 6.0程序设计演示文稿</dc:title>
</cp:coreProperties>
</file>